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85880"/>
            <a:ext cx="55468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06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706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9A0D4F-EBF6-4A5C-9400-8CA6B4AA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27600" y="877104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9FFE8A6-473B-454A-B517-4F94ECFC4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560520" y="587520"/>
            <a:ext cx="3122640" cy="2341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4440" y="3184560"/>
            <a:ext cx="3249720" cy="58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8FB-852B-45AB-B779-CB8A36D7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C53-B085-4A71-A9C3-42154E1A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BB7-41F0-46DA-BBF6-F3C5894D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499-B548-4382-A9E0-987BFF6A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BA6-3BD8-4A19-8FC4-46B3D560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FEC-68B5-4C94-80BF-B8270638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B5A-7573-4F24-A2B7-0A5EE767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8BB-5FCC-4DA5-AD32-A85D0B57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C40-4137-45DA-982C-179FB83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2E4-7EDF-4530-AC81-C0C6B57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73C-31EE-4F1C-9A8C-1FDD8C4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6D7-A9F3-4496-973D-B35A110E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EAFE-34FE-4F74-855A-DC5DFB95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2.pylusd.k12.ca.us/glk/jlaurich/TransitionWords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tepUpToWriting%20Glowing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toplightAnimated"/>
          <p:cNvPicPr/>
          <p:nvPr/>
        </p:nvPicPr>
        <p:blipFill>
          <a:blip r:embed="rId2"/>
          <a:stretch/>
        </p:blipFill>
        <p:spPr>
          <a:xfrm>
            <a:off x="155520" y="46080"/>
            <a:ext cx="1062000" cy="269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StoplightAnimated"/>
          <p:cNvPicPr/>
          <p:nvPr/>
        </p:nvPicPr>
        <p:blipFill>
          <a:blip r:embed="rId3"/>
          <a:stretch/>
        </p:blipFill>
        <p:spPr>
          <a:xfrm>
            <a:off x="7772400" y="0"/>
            <a:ext cx="1143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Blue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rans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irst,... First of all,... In addition,... Also,...) to start these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upport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plex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ffective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aph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tchy senten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nc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ackground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y favorite animal is the Giant Panda for two reasons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First of all, 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like the panda because it looks so cute and cuddly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panda's black and white body colors are simple, make it stand out, and look soft. Its sad looking face makes me want to hug it and make it happy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 addition, I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am fond of the giant panda because it is endangered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e all should try to preserve the animal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, like the panda,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that are in danger of extinction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Clearly,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e Giant Panda is the animal I like 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Introduction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Cat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A catchy sentence to get the reader’s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Thesi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learly answers the essay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three Sub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ackground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ransition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Arial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99ff"/>
                </a:solidFill>
                <a:latin typeface="Arial"/>
              </a:rPr>
              <a:t>Catch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cc33"/>
                </a:solidFill>
                <a:latin typeface="Arial"/>
              </a:rPr>
              <a:t>Thesis</a:t>
            </a: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cc33"/>
                </a:solidFill>
                <a:uFillTx/>
                <a:latin typeface="Arial"/>
              </a:rPr>
              <a:t>Conclus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ur three Sub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Clearly answers the essa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Clin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his leaves the reader knowing you are a great writer and you have proven you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Th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ronged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your three subtopics in your thesi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Writing an Occasion/ Position 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pic sentence is a type of a complex sentence- An occasion / position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the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hould include two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casion = Reason for writ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 = What you plan to prove or expl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Key Words f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Occasion Position Thesis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great words to start your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thesis sen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15120" y="2666880"/>
            <a:ext cx="204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oon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659400" y="2666880"/>
            <a:ext cx="2279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402600" y="2743200"/>
            <a:ext cx="1902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Occasion/ Position The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 of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Topic Sent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l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occasion part of sentence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tal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position part of senten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Unless you are willing to take risks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cc33"/>
                </a:solidFill>
                <a:latin typeface="Arial"/>
              </a:rPr>
              <a:t>you may not reach your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fter I tried out for band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33cc33"/>
                </a:solidFill>
                <a:latin typeface="Arial"/>
              </a:rPr>
              <a:t>I learned that there were several things that I had to do for a good performance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ote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a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plain or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nk 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se Onomatopoe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scribe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Cat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Example Intro Para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Swoosh!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I love the sound of the ball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tickling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the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nylon netting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y favorite hobby is attending Boston Celtics games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because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y have a great team this year, I am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afforded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opportunit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o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ravel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o down town Boston, and I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am abl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to spend quality time with my Dad.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 I’m even more excited about the start of this season than ever before, because of the Celtics’ recent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acquisitions.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ran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new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reasons, details, or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the writer and th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a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next t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without ju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Examples of great TRANSITION words to help the reader flow into and understand the next ide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x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- Second  Thir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secon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exampl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exampl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at night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971800" y="16002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943600" y="15238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276720" y="22096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good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better wa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best way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ally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other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ong with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addition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qually importan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en spring c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156360" y="2209680"/>
            <a:ext cx="298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e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of all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st to be considered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 of all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xt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inal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other way that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addition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Missing Transi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 Tan became a famous author after her nove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Joy Luck Cl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kyrocketed up the bestseller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other things to note about Tan as well. Amy Tan also participates in the satirical garage band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ock Bottom Remainders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Stephen King and Dave Ba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Effective Transition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y Tan became a famous author after her novel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Joy Luck Cl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kyrocketed up the bestseller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her fiction is well known, her work with the satirical garage ban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ock Bottom Remainder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s far less pub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99ff"/>
                </a:solidFill>
                <a:uFillTx/>
                <a:latin typeface="Arial"/>
              </a:rPr>
              <a:t>Elements of a Transition Stat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Transition Wo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Complex Sent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First Subtop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econd Subtop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Thes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Beowulf is a True He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eowulf is str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ulls off Grendel’s 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"/>
              </a:rPr>
              <a:t>TRANS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eowulf is resourcef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He kills Grendel’s mother with a sword he fi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owulf is st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lls off Grendel’s 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ransi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Although Beowulf is incredibly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trong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,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it is his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sourcefulness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that saves his life in the end </a:t>
            </a:r>
            <a:r>
              <a:rPr b="0" lang="en-US" sz="4000" spc="-1" strike="noStrike" u="sng">
                <a:solidFill>
                  <a:srgbClr val="3399ff"/>
                </a:solidFill>
                <a:uFillTx/>
                <a:latin typeface="Arial"/>
              </a:rPr>
              <a:t>and 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makes him a time less hero.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owulf is resourc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 kills Grendel’s mother with a sword he f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Each Body Paragraph Should follow the same basic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Ess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0" y="60912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stepupstopsign"/>
          <p:cNvPicPr/>
          <p:nvPr/>
        </p:nvPicPr>
        <p:blipFill>
          <a:blip r:embed="rId1"/>
          <a:srcRect l="0" t="0" r="6358" b="79413"/>
          <a:stretch/>
        </p:blipFill>
        <p:spPr>
          <a:xfrm>
            <a:off x="0" y="609480"/>
            <a:ext cx="449568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stepupstopsign"/>
          <p:cNvPicPr/>
          <p:nvPr/>
        </p:nvPicPr>
        <p:blipFill>
          <a:blip r:embed="rId2"/>
          <a:srcRect l="0" t="21950" r="7947" b="51225"/>
          <a:stretch/>
        </p:blipFill>
        <p:spPr>
          <a:xfrm>
            <a:off x="0" y="2895480"/>
            <a:ext cx="44197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tepupstopsign"/>
          <p:cNvPicPr/>
          <p:nvPr/>
        </p:nvPicPr>
        <p:blipFill>
          <a:blip r:embed="rId3"/>
          <a:srcRect l="0" t="26666" r="6358" b="51116"/>
          <a:stretch/>
        </p:blipFill>
        <p:spPr>
          <a:xfrm>
            <a:off x="0" y="4495680"/>
            <a:ext cx="4495680" cy="1295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stepupstopsign"/>
          <p:cNvPicPr/>
          <p:nvPr/>
        </p:nvPicPr>
        <p:blipFill>
          <a:blip r:embed="rId4"/>
          <a:srcRect l="0" t="70006" r="9517" b="7777"/>
          <a:stretch/>
        </p:blipFill>
        <p:spPr>
          <a:xfrm>
            <a:off x="0" y="563868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stepupstopsign"/>
          <p:cNvPicPr/>
          <p:nvPr/>
        </p:nvPicPr>
        <p:blipFill>
          <a:blip r:embed="rId5"/>
          <a:srcRect l="0" t="26666" r="11107" b="53341"/>
          <a:stretch/>
        </p:blipFill>
        <p:spPr>
          <a:xfrm>
            <a:off x="0" y="1828800"/>
            <a:ext cx="426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cc33"/>
                </a:solidFill>
                <a:uFillTx/>
                <a:latin typeface="Arial"/>
              </a:rPr>
              <a:t>Conclus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re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ur three Sub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Clearly answers the essa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Clin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his leaves the reader knowing you are a great writer and you have proven you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stepupstopsign"/>
          <p:cNvPicPr/>
          <p:nvPr/>
        </p:nvPicPr>
        <p:blipFill>
          <a:blip r:embed="rId1"/>
          <a:srcRect l="0" t="0" r="3179" b="0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440" y="16560"/>
            <a:ext cx="244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aragraph Form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68544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o support your sub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to next top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tepupstopsign"/>
          <p:cNvPicPr/>
          <p:nvPr/>
        </p:nvPicPr>
        <p:blipFill>
          <a:blip r:embed="rId1"/>
          <a:stretch/>
        </p:blipFill>
        <p:spPr>
          <a:xfrm>
            <a:off x="0" y="68580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2590920" y="1447920"/>
            <a:ext cx="5790600" cy="914400"/>
            <a:chOff x="2590920" y="1447920"/>
            <a:chExt cx="5790600" cy="914400"/>
          </a:xfrm>
        </p:grpSpPr>
        <p:sp>
          <p:nvSpPr>
            <p:cNvPr id="64" name="Rectangle 3"/>
            <p:cNvSpPr/>
            <p:nvPr/>
          </p:nvSpPr>
          <p:spPr>
            <a:xfrm>
              <a:off x="3354480" y="1447920"/>
              <a:ext cx="5027040" cy="9144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4"/>
            <p:cNvSpPr/>
            <p:nvPr/>
          </p:nvSpPr>
          <p:spPr>
            <a:xfrm>
              <a:off x="2590920" y="1505160"/>
              <a:ext cx="509040" cy="456840"/>
            </a:xfrm>
            <a:prstGeom prst="ellipse">
              <a:avLst/>
            </a:prstGeom>
            <a:solidFill>
              <a:srgbClr val="20ae34"/>
            </a:solidFill>
            <a:ln w="0">
              <a:noFill/>
            </a:ln>
            <a:effectLst>
              <a:outerShdw dist="153753" dir="2700000" blurRad="0" rotWithShape="0">
                <a:srgbClr val="1368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5"/>
            <p:cNvSpPr/>
            <p:nvPr/>
          </p:nvSpPr>
          <p:spPr>
            <a:xfrm>
              <a:off x="3354480" y="1505160"/>
              <a:ext cx="47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8de5d"/>
                  </a:solidFill>
                  <a:latin typeface="Arial"/>
                </a:rPr>
                <a:t>Top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6"/>
          <p:cNvGrpSpPr/>
          <p:nvPr/>
        </p:nvGrpSpPr>
        <p:grpSpPr>
          <a:xfrm>
            <a:off x="2590920" y="2362320"/>
            <a:ext cx="5790600" cy="1217880"/>
            <a:chOff x="2590920" y="2362320"/>
            <a:chExt cx="5790600" cy="1217880"/>
          </a:xfrm>
        </p:grpSpPr>
        <p:sp>
          <p:nvSpPr>
            <p:cNvPr id="68" name="Rectangle 7"/>
            <p:cNvSpPr/>
            <p:nvPr/>
          </p:nvSpPr>
          <p:spPr>
            <a:xfrm>
              <a:off x="3354480" y="2362320"/>
              <a:ext cx="5027040" cy="1023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2590920" y="2410920"/>
              <a:ext cx="509040" cy="389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153753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354480" y="2410920"/>
              <a:ext cx="48362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Reason/Detail/Fa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0"/>
          <p:cNvGrpSpPr/>
          <p:nvPr/>
        </p:nvGrpSpPr>
        <p:grpSpPr>
          <a:xfrm>
            <a:off x="2590920" y="3352680"/>
            <a:ext cx="5790600" cy="990720"/>
            <a:chOff x="2590920" y="3352680"/>
            <a:chExt cx="5790600" cy="990720"/>
          </a:xfrm>
        </p:grpSpPr>
        <p:sp>
          <p:nvSpPr>
            <p:cNvPr id="72" name="Rectangle 11"/>
            <p:cNvSpPr/>
            <p:nvPr/>
          </p:nvSpPr>
          <p:spPr>
            <a:xfrm>
              <a:off x="3354480" y="3352680"/>
              <a:ext cx="5027040" cy="9907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2"/>
            <p:cNvSpPr/>
            <p:nvPr/>
          </p:nvSpPr>
          <p:spPr>
            <a:xfrm>
              <a:off x="2590920" y="3414600"/>
              <a:ext cx="509040" cy="495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53753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3354480" y="3375720"/>
              <a:ext cx="46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pl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2590920" y="4267080"/>
            <a:ext cx="5790600" cy="1219320"/>
            <a:chOff x="2590920" y="4267080"/>
            <a:chExt cx="5790600" cy="1219320"/>
          </a:xfrm>
        </p:grpSpPr>
        <p:sp>
          <p:nvSpPr>
            <p:cNvPr id="76" name="Rectangle 15"/>
            <p:cNvSpPr/>
            <p:nvPr/>
          </p:nvSpPr>
          <p:spPr>
            <a:xfrm>
              <a:off x="3354480" y="4267080"/>
              <a:ext cx="5027040" cy="1041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6"/>
            <p:cNvSpPr/>
            <p:nvPr/>
          </p:nvSpPr>
          <p:spPr>
            <a:xfrm>
              <a:off x="2590920" y="4331880"/>
              <a:ext cx="509040" cy="520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53753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7"/>
            <p:cNvSpPr/>
            <p:nvPr/>
          </p:nvSpPr>
          <p:spPr>
            <a:xfrm>
              <a:off x="3354480" y="4317120"/>
              <a:ext cx="4772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pla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2743200" y="5257800"/>
            <a:ext cx="5638320" cy="1229040"/>
            <a:chOff x="2743200" y="5257800"/>
            <a:chExt cx="5638320" cy="1229040"/>
          </a:xfrm>
        </p:grpSpPr>
        <p:sp>
          <p:nvSpPr>
            <p:cNvPr id="80" name="Rectangle 19"/>
            <p:cNvSpPr/>
            <p:nvPr/>
          </p:nvSpPr>
          <p:spPr>
            <a:xfrm>
              <a:off x="3362760" y="5257800"/>
              <a:ext cx="5018760" cy="9781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0"/>
            <p:cNvSpPr/>
            <p:nvPr/>
          </p:nvSpPr>
          <p:spPr>
            <a:xfrm>
              <a:off x="2743200" y="5257800"/>
              <a:ext cx="495720" cy="488880"/>
            </a:xfrm>
            <a:prstGeom prst="ellipse">
              <a:avLst/>
            </a:prstGeom>
            <a:solidFill>
              <a:srgbClr val="20ae34"/>
            </a:solidFill>
            <a:ln w="0">
              <a:noFill/>
            </a:ln>
            <a:effectLst>
              <a:outerShdw dist="153753" dir="2700000" blurRad="0" rotWithShape="0">
                <a:srgbClr val="13681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1"/>
            <p:cNvSpPr/>
            <p:nvPr/>
          </p:nvSpPr>
          <p:spPr>
            <a:xfrm>
              <a:off x="3362760" y="5317560"/>
              <a:ext cx="21682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8de5d"/>
                  </a:solidFill>
                  <a:latin typeface="Arial"/>
                </a:rPr>
                <a:t>Conclu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6" descr="traf-7"/>
          <p:cNvPicPr/>
          <p:nvPr/>
        </p:nvPicPr>
        <p:blipFill>
          <a:blip r:embed="rId1"/>
          <a:stretch/>
        </p:blipFill>
        <p:spPr>
          <a:xfrm>
            <a:off x="457200" y="1523880"/>
            <a:ext cx="1752480" cy="4496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7"/>
          <p:cNvSpPr/>
          <p:nvPr/>
        </p:nvSpPr>
        <p:spPr>
          <a:xfrm>
            <a:off x="228600" y="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736640" y="41760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04920" y="152280"/>
            <a:ext cx="8534160" cy="143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ody Paragraph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Body Paragraph Gr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 Sentence: The main topic of the composition is st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Thesis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Ex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My favorite animal is the Giant Panda for two reason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stepupstopsign"/>
          <p:cNvPicPr/>
          <p:nvPr/>
        </p:nvPicPr>
        <p:blipFill>
          <a:blip r:embed="rId1"/>
          <a:srcRect l="0" t="0" r="5311" b="82616"/>
          <a:stretch/>
        </p:blipFill>
        <p:spPr>
          <a:xfrm>
            <a:off x="1295280" y="2590920"/>
            <a:ext cx="6782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ody Paragraph Ye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/Detail/Fact : Give the reader a main reason, detail or fact that relates to and supports the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of all, 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ke the panda because it looks so cute and cudd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tepupstopsign"/>
          <p:cNvPicPr/>
          <p:nvPr/>
        </p:nvPicPr>
        <p:blipFill>
          <a:blip r:embed="rId1"/>
          <a:srcRect l="7637" t="25554" r="11223" b="60105"/>
          <a:stretch/>
        </p:blipFill>
        <p:spPr>
          <a:xfrm>
            <a:off x="1676520" y="2514600"/>
            <a:ext cx="6476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ody Paragraph R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/Example: Give an example for the statement made in the reason/detail/fa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panda's black and white body colors are simple, make it stand out, and look soft. Its sad looking face makes me want to hug it and make it happ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tepupstopsign"/>
          <p:cNvPicPr/>
          <p:nvPr/>
        </p:nvPicPr>
        <p:blipFill>
          <a:blip r:embed="rId1"/>
          <a:srcRect l="6842" t="46668" r="10021" b="38172"/>
          <a:stretch/>
        </p:blipFill>
        <p:spPr>
          <a:xfrm>
            <a:off x="2057400" y="2666880"/>
            <a:ext cx="5562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Body Paragraph Greens…Ag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ding Sentence: The topic is restated to remind the reader what the composition was about. (Begin this sentence with Clearly,... All in all,...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GO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tepupstopsign"/>
          <p:cNvPicPr/>
          <p:nvPr/>
        </p:nvPicPr>
        <p:blipFill>
          <a:blip r:embed="rId1"/>
          <a:srcRect l="0" t="0" r="5311" b="82616"/>
          <a:stretch/>
        </p:blipFill>
        <p:spPr>
          <a:xfrm>
            <a:off x="1295280" y="3124080"/>
            <a:ext cx="6782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2:05:32Z</dcterms:created>
  <dc:creator>HM</dc:creator>
  <dc:description/>
  <dc:language>en-US</dc:language>
  <cp:lastModifiedBy>Teacher</cp:lastModifiedBy>
  <dcterms:modified xsi:type="dcterms:W3CDTF">2009-10-08T15:58:38Z</dcterms:modified>
  <cp:revision>26</cp:revision>
  <dc:subject/>
  <dc:title>Step-up to Writing Essays</dc:title>
</cp:coreProperties>
</file>